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6F2B-DE52-4E1E-ACA9-7C646231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B49-5795-4E80-B8E2-7E249842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6BA-FA49-4344-A14F-50A13831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E37D-51E0-4D62-A2F9-135238BA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E1D5-BEF5-41A3-9EB6-AD86D8B7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4FD8-FE54-4B79-BC4B-EE826C66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1EF8-F7F1-4872-8601-73EA5C41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014C-B2D7-4C45-B17A-A632D2E1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32D6-6A0C-47B5-9AB7-57BE11CA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BD75-E078-4B81-8922-5FD25ED9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C3EB-3B04-4304-A78B-6B0C270E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DF5E-8ED2-49D2-A1CB-090FFEEE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BDB5-818F-4CD8-9215-162919B64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fidnet.com/~dap1955/dickens/index.html" TargetMode="External"/><Relationship Id="rId3" Type="http://schemas.openxmlformats.org/officeDocument/2006/relationships/hyperlink" Target="http://www.fidnet.com/~dap1955/dickens/index.html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idnet.com/~dap1955/dickens/carol.html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dwardian Script ITC"/>
              </a:rPr>
              <a:t>Introducing:</a:t>
            </a:r>
            <a:br>
              <a:rPr sz="3600"/>
            </a:br>
            <a:r>
              <a:rPr b="1" lang="en-US" sz="8000" spc="-1" strike="noStrike">
                <a:solidFill>
                  <a:srgbClr val="ffffff"/>
                </a:solidFill>
                <a:latin typeface="Edwardian Script ITC"/>
              </a:rPr>
              <a:t>Great Expectation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dwardian Script ITC"/>
              </a:rPr>
              <a:t>a novel by</a:t>
            </a:r>
            <a:r>
              <a:rPr b="0" lang="en-US" sz="700" spc="-1" strike="noStrike">
                <a:solidFill>
                  <a:srgbClr val="ffffff"/>
                </a:solidFill>
                <a:latin typeface="Edwardian Script ITC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Edwardian Script ITC"/>
              </a:rPr>
              <a:t>Charles Dicke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rections: Use  the following link to fill in each of the following slides: 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fidnet.com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/~dap1955/dickens/index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2727"/>
                </a:solidFill>
                <a:latin typeface="Baskerville Old Face"/>
              </a:rPr>
              <a:t>Mr. Dickens- </a:t>
            </a:r>
            <a:r>
              <a:rPr b="1" lang="en-US" sz="1600" spc="-1" strike="noStrike">
                <a:solidFill>
                  <a:srgbClr val="ff2727"/>
                </a:solidFill>
                <a:latin typeface="Baskerville Old Face"/>
              </a:rPr>
              <a:t>Look at the home page,</a:t>
            </a:r>
            <a:r>
              <a:rPr b="1" lang="en-US" sz="1600" spc="-1" strike="noStrike">
                <a:solidFill>
                  <a:srgbClr val="ff2727"/>
                </a:solidFill>
                <a:latin typeface="Baskerville Old Face"/>
              </a:rPr>
              <a:t>  </a:t>
            </a:r>
            <a:r>
              <a:rPr b="1" lang="en-US" sz="1600" spc="-1" strike="noStrike">
                <a:solidFill>
                  <a:srgbClr val="ff2727"/>
                </a:solidFill>
                <a:latin typeface="Baskerville Old Face"/>
              </a:rPr>
              <a:t>Fast Facts, and Family and Friends lin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86200" cy="548640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askerville Old Face"/>
              </a:rPr>
              <a:t>Dickens as a chi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6633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askerville Old Face"/>
              </a:rPr>
              <a:t>When was he bor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6633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askerville Old Face"/>
              </a:rPr>
              <a:t>Who were his parents and give background info on th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6633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askerville Old Face"/>
              </a:rPr>
              <a:t>What was his relationship with his pare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6633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askerville Old Face"/>
              </a:rPr>
              <a:t>What were Dickens’ own early experiences (education, work, etc.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219320"/>
            <a:ext cx="3809880" cy="548640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askerville Old Face"/>
              </a:rPr>
              <a:t>Dickens as an ad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askerville Old Face"/>
              </a:rPr>
              <a:t>What was his family life lik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askerville Old Face"/>
              </a:rPr>
              <a:t>Where did he live most of his lif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askerville Old Face"/>
              </a:rPr>
              <a:t>Where was he buried and where did he want to be buri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His Work: </a:t>
            </a: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In the boxes below, record four of  dickens’ most famous works (includ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pperplate Gothic Bold"/>
              </a:rPr>
              <a:t>Great Expectations</a:t>
            </a: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) and write a short Description of each work and its major themes.  Use the link called “The Novel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38080" y="1981080"/>
          <a:ext cx="7620120" cy="3781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  <a:gridCol w="1905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Great Expect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liver Tw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 Christmas Ca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lackadder ITC"/>
              </a:rPr>
              <a:t>His Novels:</a:t>
            </a: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 Many of Dickens’ novels we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lackadder ITC"/>
              </a:rPr>
              <a:t>serial novels</a:t>
            </a: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.  What is the definition of a serial novel and explain the effect it has on the re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ackadder ITC"/>
              </a:rPr>
              <a:t>A View of Lon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adder ITC"/>
              </a:rPr>
              <a:t>How did Dickens perceive London and what role did it have on his writ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adder ITC"/>
              </a:rPr>
              <a:t>Dickens saw London a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81600" y="1981080"/>
            <a:ext cx="334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A Dickens Christm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tura MT Script Capitals"/>
              </a:rPr>
              <a:t>What influence did Dickens have on the way people celebrate Christmas?</a:t>
            </a:r>
            <a:r>
              <a:rPr b="0" lang="en-US" sz="2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A Christmas Carol - E. A. Abbey-187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19810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43000" y="3733920"/>
            <a:ext cx="335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tura MT Script Capitals"/>
              </a:rPr>
              <a:t>What traditions that we practice now came back into fashion during the Victorian 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iner Hand ITC"/>
              </a:rPr>
              <a:t>Great Expectations</a:t>
            </a:r>
            <a:r>
              <a:rPr b="0" lang="en-US" sz="4000" spc="-1" strike="noStrike">
                <a:solidFill>
                  <a:srgbClr val="000000"/>
                </a:solidFill>
                <a:latin typeface="Viner Hand ITC"/>
              </a:rPr>
              <a:t>: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Viner Hand ITC"/>
              </a:rPr>
              <a:t>Tid-bits and interesting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d the “Story Fortold” on the left hand side of th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Great Expectation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The Restoration House and how does it show up in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Great Expecta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the significance of “Beggar My Neighbor” in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Great Expecta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ok at the link of the forge and the honeymoon site of Dickens and his wif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“Transportation” in the novel?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5c891f"/>
                </a:solidFill>
                <a:uFillTx/>
                <a:latin typeface="Bradley Hand ITC"/>
              </a:rPr>
              <a:t>Great Expectations</a:t>
            </a:r>
            <a:r>
              <a:rPr b="1" lang="en-US" sz="4400" spc="-1" strike="noStrike">
                <a:solidFill>
                  <a:srgbClr val="5c891f"/>
                </a:solidFill>
                <a:latin typeface="Bradley Hand ITC"/>
              </a:rPr>
              <a:t> is considered one of Charles Dickens’ most brilliant novels.  </a:t>
            </a:r>
            <a:r>
              <a:rPr b="1" lang="en-US" sz="4400" spc="-1" strike="noStrike">
                <a:solidFill>
                  <a:srgbClr val="95d442"/>
                </a:solidFill>
                <a:latin typeface="Bradley Hand ITC"/>
              </a:rPr>
              <a:t>His use of plot</a:t>
            </a:r>
            <a:r>
              <a:rPr b="1" lang="en-US" sz="4400" spc="-1" strike="noStrike">
                <a:solidFill>
                  <a:srgbClr val="5c891f"/>
                </a:solidFill>
                <a:latin typeface="Bradley Hand ITC"/>
              </a:rPr>
              <a:t>, character </a:t>
            </a:r>
            <a:r>
              <a:rPr b="1" lang="en-US" sz="4400" spc="-1" strike="noStrike">
                <a:solidFill>
                  <a:srgbClr val="95d442"/>
                </a:solidFill>
                <a:latin typeface="Bradley Hand ITC"/>
              </a:rPr>
              <a:t>development, and</a:t>
            </a:r>
            <a:r>
              <a:rPr b="1" lang="en-US" sz="4400" spc="-1" strike="noStrike">
                <a:solidFill>
                  <a:srgbClr val="5c891f"/>
                </a:solidFill>
                <a:latin typeface="Bradley Hand ITC"/>
              </a:rPr>
              <a:t> </a:t>
            </a:r>
            <a:r>
              <a:rPr b="1" lang="en-US" sz="4400" spc="-1" strike="noStrike">
                <a:solidFill>
                  <a:srgbClr val="95d442"/>
                </a:solidFill>
                <a:latin typeface="Bradley Hand ITC"/>
              </a:rPr>
              <a:t>irony have tantalized many</a:t>
            </a:r>
            <a:r>
              <a:rPr b="1" lang="en-US" sz="4400" spc="-1" strike="noStrike">
                <a:solidFill>
                  <a:srgbClr val="5c891f"/>
                </a:solidFill>
                <a:latin typeface="Bradley Hand ITC"/>
              </a:rPr>
              <a:t> </a:t>
            </a:r>
            <a:r>
              <a:rPr b="1" lang="en-US" sz="4400" spc="-1" strike="noStrike">
                <a:solidFill>
                  <a:srgbClr val="95d442"/>
                </a:solidFill>
                <a:latin typeface="Bradley Hand ITC"/>
              </a:rPr>
              <a:t>readers for almost two centuries</a:t>
            </a:r>
            <a:r>
              <a:rPr b="1" lang="en-US" sz="4400" spc="-1" strike="noStrike">
                <a:solidFill>
                  <a:srgbClr val="5c891f"/>
                </a:solidFill>
                <a:latin typeface="Bradley Hand ITC"/>
              </a:rPr>
              <a:t>.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00840" y="467676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5d442"/>
                </a:solidFill>
                <a:latin typeface="Bradley Hand ITC"/>
              </a:rPr>
              <a:t>Enjoy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7:38:38Z</dcterms:created>
  <dc:creator>CCOX</dc:creator>
  <dc:description/>
  <dc:language>en-US</dc:language>
  <cp:lastModifiedBy>Virginia Beach City Public Schools</cp:lastModifiedBy>
  <dcterms:modified xsi:type="dcterms:W3CDTF">2007-10-18T17:34:58Z</dcterms:modified>
  <cp:revision>9</cp:revision>
  <dc:subject/>
  <dc:title>Great Expectations</dc:title>
</cp:coreProperties>
</file>